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681-027B-4C10-93AF-3864243D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6E1F-D41A-4EA7-BD98-4D7E31A6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lideshare.net/robswatski/biol-101-chp-9-cellular-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A31B-967F-4A45-AA7A-CE945735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2E0-AA73-4DA0-90D0-03ADEA2E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E24-4CF8-424A-BF01-CC1FA435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ynamicscience.com.au/tester/solutions/chemistry/foodchemistry/carbohydrate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BB96-A7D8-4A76-95D0-160840912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F400-8BDF-4843-BF5C-0D2BB44B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en.wikipedia.org/wiki/File:NAD%2B_phys.sv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41E9-195F-48CC-B2F9-7179F18F9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s://wikispaces.psu.edu/download/attachments/46695631/NAD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F69-AAC8-43E3-A764-D5A53001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andwalk.blogspot.com/2007/04/riboflavin-vitamin-b2-fmn-and-fad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B2C-6CAD-474C-89E6-03D3543D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98/?rendertype=figure&amp;id=A196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cyclopedia2.thefreedictionary.com/D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3344-478F-4912-A03B-82540309F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cyclopedia2.thefreedictionary.com/D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ED7E-6343-4D8B-B2C3-F848BAF7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350F-6F70-4D95-9D91-B1ED5E27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ardenandplate.com/sodiumchlor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online.science.psu.edu/biol011_sandbox_7239/node/73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169F-06E4-4241-9C85-0D6CBFC0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4397-0638-4BF1-B139-8F519C63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0A0-BE9E-451A-A438-D58BCA18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chemprime.chemeddl.org/index.php/CoreChem:Bond_Enthal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6E11-3FCB-49CF-A3C1-6F342E5F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: https://www.khanacademy.org/science/chemistry/oxidation-reduction/redox-oxidation-reduction/v/oxidation-reduction-or-redox-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10EE-C19D-4B56-B186-6F6BB7E9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50E-4EB2-4C2C-A04D-EFBB7AE9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411-C6AB-4959-B62F-8AA7692D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432-FE2A-44CE-BEA4-9F0447F1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574-B228-4E01-A046-81D5BB26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11F-1B67-4B4A-A053-6B03AEE3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0C0-3B79-4E2A-A5BD-016827C6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358-9012-44D7-A14B-DA205DA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8ED-8D6B-4BFD-8554-75461CD1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DE5-8B1B-4D62-8106-17A3637E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054-92F1-4C67-8A29-9EBFD5F1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DC3-C1D9-419D-A82A-E015FB5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C7A-BDDF-4E9F-93DF-74A7C87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52D-F20A-4955-A5CB-6AEC26F5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chemistry/oxidation-reduction/redox-oxidation-reduction/v/oxidation-reduction-or-redox-reac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od As Fu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7" descr="biol-101-chp-9-cellular-respiration-and-fermentation-8-638.jpg"/>
          <p:cNvPicPr/>
          <p:nvPr/>
        </p:nvPicPr>
        <p:blipFill>
          <a:blip r:embed="rId1"/>
          <a:srcRect l="0" t="14747" r="0" b="14747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is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(oxidation) of glucose releases a large amount of therm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ells, oxidation of glucose occurs in a series of steps (controlled oxidation) to minimize 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espirationenergyprofile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in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ntire atoms (with their electrons) are transferred during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ee also 1.1, page 1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+ (nicotinamide adenine dinucleotide) is a coenzyme found in all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iac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363px-NAD+_phys"/>
          <p:cNvPicPr/>
          <p:nvPr/>
        </p:nvPicPr>
        <p:blipFill>
          <a:blip r:embed="rId1"/>
          <a:stretch/>
        </p:blipFill>
        <p:spPr>
          <a:xfrm>
            <a:off x="513864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NAD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NAD"/>
          <p:cNvPicPr/>
          <p:nvPr/>
        </p:nvPicPr>
        <p:blipFill>
          <a:blip r:embed="rId1"/>
          <a:stretch/>
        </p:blipFill>
        <p:spPr>
          <a:xfrm>
            <a:off x="1101600" y="1981080"/>
            <a:ext cx="694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(flavin adenine dinucleotide) is a coenzyme involved i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boflav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Name_This_Molecule_#23"/>
          <p:cNvPicPr/>
          <p:nvPr/>
        </p:nvPicPr>
        <p:blipFill>
          <a:blip r:embed="rId1"/>
          <a:stretch/>
        </p:blipFill>
        <p:spPr>
          <a:xfrm>
            <a:off x="4648320" y="2058840"/>
            <a:ext cx="3809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h14f15"/>
          <p:cNvPicPr/>
          <p:nvPr/>
        </p:nvPicPr>
        <p:blipFill>
          <a:blip r:embed="rId1"/>
          <a:stretch/>
        </p:blipFill>
        <p:spPr>
          <a:xfrm>
            <a:off x="685800" y="2981160"/>
            <a:ext cx="7772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Food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n C-H bonds (like in hydrocarbon fuels, or glucose) are a good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6" descr="Structural-formula-for-x3b1-D-glucose.jpg"/>
          <p:cNvPicPr/>
          <p:nvPr/>
        </p:nvPicPr>
        <p:blipFill>
          <a:blip r:embed="rId1"/>
          <a:srcRect l="0" t="-11543" r="0" b="-11543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from Food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n the non-polar C-H bonds are easily pulled to more electronegative nuclei like in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released as the new bond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tang-07-polarity-4-728.jpg"/>
          <p:cNvPicPr/>
          <p:nvPr/>
        </p:nvPicPr>
        <p:blipFill>
          <a:blip r:embed="rId1"/>
          <a:srcRect l="0" t="-21992" r="0" b="-2199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dox reactions, atom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iz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lectrons are lost) and atom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lectrons are gai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io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2" descr="sodiumchloridereaction3.jpg"/>
          <p:cNvPicPr/>
          <p:nvPr/>
        </p:nvPicPr>
        <p:blipFill>
          <a:blip r:embed="rId1"/>
          <a:srcRect l="-920" t="0" r="-92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3" descr="Fig-4-1-Redox-Reaction.gif"/>
          <p:cNvPicPr/>
          <p:nvPr/>
        </p:nvPicPr>
        <p:blipFill>
          <a:blip r:embed="rId1"/>
          <a:srcRect l="0" t="-4885" r="0" b="-4885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/at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reduc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iz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/at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oxidiz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ee also 1.1, page 1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can occur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s or gain of electrons due to electronegativity differen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effectively oxidized, O is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Methane_combustion.jpg"/>
          <p:cNvPicPr/>
          <p:nvPr/>
        </p:nvPicPr>
        <p:blipFill>
          <a:blip r:embed="rId1"/>
          <a:stretch/>
        </p:blipFill>
        <p:spPr>
          <a:xfrm>
            <a:off x="480960" y="1959120"/>
            <a:ext cx="81946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an Acad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ly explains how atoms are reduced/oxidized in the combustion of meth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xidation st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concept that imagines polar covalent bonds as ionic to indicate the relative positions of th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4:20:41Z</dcterms:created>
  <dc:creator>rubina khan</dc:creator>
  <dc:description/>
  <dc:language>en-US</dc:language>
  <cp:lastModifiedBy>rubina khan</cp:lastModifiedBy>
  <dcterms:modified xsi:type="dcterms:W3CDTF">2017-05-30T10:27:48Z</dcterms:modified>
  <cp:revision>80</cp:revision>
  <dc:subject/>
  <dc:title>3.3 Enzymes &amp; Ea 3.4 Food As Fuel</dc:title>
</cp:coreProperties>
</file>